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903-AA51-461F-8E1A-38061F69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732-6E0F-4294-B41E-96463C4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05347-7558-4693-80AA-B527683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46417-80C6-4E5F-8EA4-2EC0FAD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DE75-175F-4741-AD2B-6B8D761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4824A-3B52-4BE2-9D1F-278B622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6B7A-5FD9-430B-BCA3-A7E5B0D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9C5B7-CC17-49B8-82AB-36E800A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CEFEC-2F6A-4524-8A90-30B743B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61B78-1589-492E-8222-799DD31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D2551-30EA-430B-881D-E3DD639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D30B8-9B91-4774-AF75-E1546FEF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9ED-35F0-4355-ADF9-FE65AE26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06E22-3887-401B-A328-94D2180A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05B6-C707-46F5-A063-D4EA7D4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10A60-47F1-4E87-8B57-68C58D82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A3FA7-CB5D-4226-91F1-2C34416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EEDC8-C900-4FBB-868D-70DA851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2038A-573D-4C43-AF1D-00444FA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EFF2E-C19F-4CFB-AECD-CD74C5F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EC1D-1C19-4C55-A329-88AD903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BBF35-C515-49BD-B379-132DE893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84E17-509B-4E2A-8B1D-51443B3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7C4-88B7-4752-886E-379ED597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78FF5-5E2C-41C2-AEE5-8CA18C3C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5A35-17A4-43B0-80CB-BAD755D7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7A67-93B4-4EC1-92BD-5CA1490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5433A-E88F-47C0-A478-0574492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EE0D-402D-46E0-8551-C00F74E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5864-7A6D-41C5-B990-BEF93DD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F1CC0-954C-4E66-B7FA-7B75A95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2360-D5C4-4128-BBD2-B378906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1EA6-C7EA-438C-AD21-9021C73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632F5-CC8A-48C9-B394-5879B53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AC2-28E4-4C1D-A297-15E65D73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1AAF8-8F1B-46BE-A56E-9544AEC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6EDA-8A2F-46D7-8552-A03B4BFF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8C2B-2DCC-49E9-97C8-423D9D84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B2AB1-4A1F-40A5-B35F-4DD3529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3FD9A-0437-4953-BFA8-F4FCBBED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9EBDE-7362-47CC-BB6D-06A9198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EEF08-2E6F-4AD7-B3AC-455F7720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A2FDB-C788-456B-808C-5FF1787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DF82C-8FF6-42CD-B419-B94B7AD0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F239E-AEFE-4908-A115-BC67D2C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1DDE-2663-4011-9D64-871D9FD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90CFB-4E7E-4211-A215-364D62E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77DA-B6B3-4116-81D2-16E1539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2959A-BBCD-4396-90BC-F1DC3619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71D2C-20F5-4976-8456-7DE9CA4D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F6AD9-1C60-4545-AC02-B4E61833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7A5-4EEB-4C40-B536-D9A01AD4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F66D-9D9F-4656-B65F-DF6AE76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4F86-ECB3-4544-BC3E-04F72FA2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3DC-503D-4215-9C89-527D506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BB3F-202C-436E-96A1-65AC4C2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7AA-B0A4-442C-8029-F8FC1ECA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CB8-769A-4B81-87CC-F6E334F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9FEB-2BEF-4169-ABF6-97D250F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C80-9DFA-4A63-BD4D-28679C2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327-2707-4085-B732-E2EF50B5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431-0FD3-4E01-BD7D-4A0D118E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37D0-627B-4AA8-858D-639CD215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B0E1-F364-459D-B9EB-4153CD18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04E1-F853-4D4F-857D-8AB4380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EA28-35AF-407E-AB53-4E92561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680E-743D-42FD-8215-1D218CE9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13B-77B9-413C-ABC4-6DF0336B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BD22-3D59-455D-8C4D-C1C006A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BF0A-935E-4DE9-82CD-0C67010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6D00-2178-4030-814B-D94AA4A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364D-5F04-4AD7-A3B0-BFEDE45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910C-9CDC-4BAF-A885-5D67B0B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FAB8-3FCA-401C-8442-1F3AF525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016E-8983-41AF-9BEF-A2C14154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46022-8413-4CBE-88C5-271AB1F5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3857-3D0A-4FDB-BC91-D566477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71A3-89BF-48CB-B5E7-8C2D97E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D5D-8DEC-4246-93A2-00DF2ACC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A948-666D-4973-817C-3B374EB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1C9B-9C38-4AED-8BEC-38286BB3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A185-160B-4C74-A7AA-B28F3E3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DA47-2A4F-40D1-B188-6DFF37D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55E9-D8B9-4C75-8F49-F786888F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D1EE-DC43-407F-8852-108C519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86C1-6720-4D41-9ACF-7AB5B02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F627-9F7B-4317-94E0-0C6EC919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5661-AE2A-4072-AC5D-1FC70445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CA7D-5D81-4F57-A525-35402742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DC0-4CB9-4A12-9028-31A622B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703C-6F9F-4BFE-B1FF-2E71A14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11C9-F0DC-4AB4-9E82-E8C36FF0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39D7-07E8-4730-8DA9-36A4B15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01B8-03C2-4DDC-A7A2-663B8F4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43BE-FF9E-45BE-AF0B-EF5435E3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4B0B-67EB-4E19-994C-287BC94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47CE-D7BE-4049-A78B-015444D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9DBF-DD42-46AF-AADC-EF85FDF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5A40-D515-4534-817D-D298FDD5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EC57-6E4C-493D-9FB7-11DF032D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685-31D0-49F1-A518-E0839B7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9730-D4C8-4CBA-B5F6-05BDB38F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81C4-8BAC-4CE7-BC33-FC7B4C8C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0EE7-BBCF-426F-8624-371102E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C1C0-D47C-48F0-9878-5F5D6D1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47E8-6779-45D9-BA62-14BA445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69BB0-42A0-481F-8790-FF27EB8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BB46-51FF-4929-8ABA-F369B38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F77D-2710-490A-9CAD-11BF4580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1DC2-F22D-41DF-BBF1-74F45AF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7D1D-59C4-468A-882A-3A5D8380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576-973A-4424-9402-B415AD5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8065-6FAA-422B-BFF3-FACA777F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8E485-9323-47F5-985A-FE31AFB4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A3E28-C2C4-4E1A-89B0-071FF7F5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E14C-A014-40FA-9ECE-D46F65C5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D04D-EBB8-44A1-AABB-047FA39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1D00-0381-42B0-A0B5-B323017E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E550-1EE2-45D4-9177-41BF168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ABF3F-545A-43F4-8186-40C18C23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A752-32AC-4EB7-A0C6-18B2D6D4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AF7A-79A5-4159-89C9-133905C5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DE8-9605-4C14-A0A4-75AC8C6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7DF5-3E85-4D17-907D-4A4ED62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23CD-6CF8-4EAA-9BB3-B251628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D0B5-40A2-45DD-8C42-89017FC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E3D6-7F42-422A-9257-0107DB00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D340C-ABA6-4B68-83B5-8A2F0FCA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9166-CB25-4B67-9C57-64A5BE75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CADB4-C692-4188-8E4A-A60AD538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A635-459D-4998-885A-1A5ECFA8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0305-C6F6-4BA5-930C-A1B69D5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0B70-5ADC-4A3D-80B7-1B3EFDA2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EA4-6204-4B58-BC3B-71C25F6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4D5A-B77B-4417-858B-39B8143F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B032-7E6B-4B7C-98F2-24A77B1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8737-3769-4848-B68E-F7C9FD7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8D59-0B7C-4E29-88A2-994F5B0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3EE9-6010-497D-826C-A3674869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0B72-6A35-423E-B0ED-EB34C5DC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A5B8-6404-4A14-8507-1CC1898E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3E8A9-B751-4A34-85DB-9107AA2A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5E9B-48F5-4DC5-9F7C-75AFDE2F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F4440-033E-4F4A-9231-5C9F096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C35-F4DA-456E-8E47-9192D11561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A61-843A-491A-8D2A-7263F3F958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CA93-56D2-405D-AB2C-97583B374E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B13-7787-4844-884F-2EFCF09B87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DEF-FD7D-4007-B2B9-D9FA23EC9D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296E-1C37-4170-9A0A-6EA5A6AD98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0DBB-EC65-43F7-8CE9-0FA18376E8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D601-26F4-43DF-B24F-C6428C1501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B67-D1FF-42F4-81A1-87E52B91B5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47DE-60B7-46C1-9B5E-7C887C32B6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723-FA47-4DB2-9E02-0C1754B1D8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39AE-A70F-4B86-942B-6965C832FD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7 Sláva tebe nekoneč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úci, dobrý Past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ám ma stále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om vo večnej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tvár smel stál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hriechu zo mňa sň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tebe nekoneč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rahý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, že si z lásky ku m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skom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lásku prenesmier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okážem vystihn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chcem stále kráč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áš viere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slúžiť, Pane, túži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tebe zasvä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zvesť o tom šír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chceš hriešnych zachrán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11T16:32:03Z</dcterms:modified>
  <cp:revision>33</cp:revision>
  <dc:subject/>
  <dc:title>Je veľký náš Pán, on slávy je Kráľ Nech do všetkých strán  spev vrúcnych znie chvál.</dc:title>
</cp:coreProperties>
</file>